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6D2-FA3A-44F3-B14D-18D4C57DE3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D59-138E-4789-AC07-A4A9B402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4F4-FC75-469F-8D15-CE7A0B4D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59E-1D82-4E2E-BF08-283D7CD2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3A6-FE00-4B57-921F-052B3D03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038-3BF0-4DAF-BCE2-1F084116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B23-4CE4-45A4-B8F1-12251DA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A81-C7BA-4796-AEE2-4B71D2C6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95B-A5A4-46D9-9652-A70A2CE0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8EC-F9A6-4132-8D06-381ACCC3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D22-EE26-47FB-A544-F8E6AC24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E0F-3777-4E12-AF01-A7A18DC8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75C-39BC-4F7D-8ED5-F0A8363E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CEC3-460C-4E91-B28D-628452246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2T05:50:50Z</dcterms:modified>
  <cp:revision>6</cp:revision>
  <dc:subject/>
  <dc:title>Group 14, the Carbon Group</dc:title>
</cp:coreProperties>
</file>